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ABD8D-56D6-4939-977A-AC6FEFA601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C0FFA-2533-4AAA-8E85-F3D3910097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A500E-DA16-447A-BBE8-DD940F6278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4A326-1233-41E6-9772-FB21557400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DE0A7-80AF-4CAD-A5C4-DB365AB142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89349-D7E7-4776-960D-7C5F2CAA9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05C2F-AA42-46CE-998B-B0838DDE69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36C0B-98E2-43A1-BECA-99FA4D4D39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5C96B-8572-46E5-A52E-3628CF868B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AD34B-7530-4E71-A6DD-0902789E6B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DD22E-D765-4381-AD28-5739D73713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44D37-3ED0-40C0-815B-5C530C5347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3B555-BCB2-495D-ABBE-EB0E9F43C8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5C4-B36E-4526-A50C-22EBA123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7A5-BA6F-4412-8474-5F0500F4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5AE-A365-4680-AB7D-DF2BBA0A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61B-515A-48F3-AE0C-2DF01BAB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7F2C-208F-4378-BE2B-2E7A63F8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79AB-4F39-4BE2-85F5-E8F9B4C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F0AB-02C0-4D10-B0A3-03AB3BF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C20C-88BB-49C7-9392-1CED4F4E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236B-788C-43B1-8653-1FB84792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D0FB-C5AD-4DD0-A587-064D564E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2E7A-ABE5-40E9-8711-A179D107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341-3C08-4E86-B236-A71DCF7A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E8B8-2A55-4353-BDD9-D8EC4615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3968-6A3D-4FDC-B536-8C6B84D9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41A4-C44F-42C6-A524-F5C1ACF2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1758-54B5-434C-A955-1EF6E325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E8EB-4752-4C42-B874-39B009C6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B705-B19E-40B7-82EB-BA39D285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088B-56BB-4779-B0AD-660563FF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6B1B-67D0-471F-A3C7-31E65E10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742C-7F29-45F8-9ECF-DE9CAA4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ECBE-D5B5-401D-8B6F-DD8D3897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935-E253-4DC7-A889-DD5B4E3F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2BFE-891E-49E2-92AC-8991215D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78C1-C47D-4D77-ABF9-135DD375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C2BC-FB2D-4F0E-87E3-B5F544C7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46E4-DE2C-40DF-A871-2229E169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EEAC4-1123-4A64-B84F-CEFB41AE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014E-32CA-4923-9310-06AE4B87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86F2-C0A6-427A-8152-DD5F803B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9327-B862-4408-84DE-8469256E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AF170-EDD2-43E0-8773-58F2A074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8199D-F3B3-4383-8F66-064FEE9B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25C-1B52-43C3-9F05-7C02CB08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EAA9-F4F8-460E-AA88-9CD26559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FB4D-0251-4848-BCB4-232A9DD1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52598-17FB-4D90-8018-30C431C6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079D-40D7-46CF-992A-F469537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0999-D266-4AF4-9C3B-416BDAA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F90F4-1D44-4DA7-B27B-1A78DC6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EE763-A3C9-4C16-BB21-C0820A3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7890-5CDB-4D7A-9D92-03DEDBE6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197B-0524-42EE-A76E-98D924CF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9A190-EDC5-4603-B269-62867E2D84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924-AE4E-4465-AF95-3A5CAF97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56D21-6B58-4561-A45A-B9238816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B3AC6-F37D-450C-92B0-BB33D7DB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89D83-A109-49AD-8C13-7E7346E6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8E5D0-5252-4B9C-AB35-D74937DF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E69E4-01AE-49BE-A528-BBEED7E7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47216-C23B-4F45-8FF0-03A3A05C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0F391-B6C9-4AF3-9A05-8BA6907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2F0A6-7A23-4987-96B9-8EC295BE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829C5-65AD-4A30-9D8A-857DFA37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6EE35-93FC-4FE9-8DAA-5D5D4EA5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6D10-A906-41EA-A2FF-54D9130D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7B965-FE4C-4B0D-A87D-2BD958AF47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3A9-549F-49F9-AAEF-B0E5719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BC4-D02A-4B71-AE94-E93D31A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CC6-A2F0-49AB-B497-D34F85AE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70D46E-E764-4A80-BCE2-19CA26CD021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4D96ED-F645-4E80-B659-34322908E0C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6FB599-AA97-4EFA-B5D0-35CAEFBFA6B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7F9C72-FB82-4455-BFF4-FE2D2E683AA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03B01E-996D-4AA8-9A98-798CFC6EE93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714240"/>
            <a:ext cx="78516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ПОНИМАНИЕ – НАЧАЛО  СОГЛА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23640" y="4797360"/>
            <a:ext cx="8429400" cy="1643040"/>
          </a:xfrm>
          <a:prstGeom prst="rect">
            <a:avLst/>
          </a:prstGeom>
          <a:noFill/>
          <a:ln w="0">
            <a:noFill/>
          </a:ln>
        </p:spPr>
        <p:txBody>
          <a:bodyPr rIns="18360" tIns="45000" bIns="450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ИЧИНЫ КОНФЛИКТОВ И СТИЛИ РАЗРЕШЕНИЯ КОНФЛИКТНЫХ СИТУАЦИЙ С ДЕТЬ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Рисунок 3" descr=""/>
          <p:cNvPicPr/>
          <p:nvPr/>
        </p:nvPicPr>
        <p:blipFill>
          <a:blip r:embed="rId1"/>
          <a:stretch/>
        </p:blipFill>
        <p:spPr>
          <a:xfrm>
            <a:off x="2633760" y="2381400"/>
            <a:ext cx="387648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</a:rPr>
              <a:t>ОСНОВНЫЕ ПРАВИЛА БЕСКОНФЛИКТНОГО ОБЩЕНИЯ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42920" y="1000080"/>
            <a:ext cx="878688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ните, что прямолинейность хороша, но не всегда. Критикуйте, но не злорадствуйте. Во всем надо знать меру. Сказать правду тоже надо уметь! Будьте независимы, но не самонадеянны. Не превращайте настойчивость в назойл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ьте справедливы и терпимы к людям. Не переоценивайте свои способности и возможности и не умаляйте способности и возможности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роявляйте инициативу там, где в ней не нужд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изуйте себя в творчестве, а не в конфли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йте выдержку, овладейте умениями саморегуляции. Уважение к людям, знание правил ведения спора, дискуссии, правил общения помогают предотвращать ненужны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онфликт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ПРАВИЛА ПРЕДУПРЕЖДЕНИЯ КОНФЛИК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 говорите сразу со взвинченным, возбужденным человеко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ежде чем сказать о неприятном, постарайтесь создать доброжелательную атмосферу, отметьте заслуги человека, его хорошие дела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старайтесь посмотреть на проблему глазами оппонента, постарайтесь «встать на его место»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 скрывайте доброго отношения к людям, чаще высказывайте одобрение своим товарищам, не скупитесь на похвалу;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мейте заставить себя молчать, когда вас задевают в мелкой ссоре, будьте выше мелочных разборок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Times New Roman"/>
              </a:rPr>
              <a:t>Служба школьной медиац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81200" y="193464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решение конфликта с помощью «третейского судьи» (соц педагог, психолог, зам директора по ВР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этапа разбора конфликтной ситу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оппонентов «снимаются» ложные образы ситуации и друг друг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фликт всегда разрешает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участники конфликта выходят из конфликта победител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бы не навредить своему ребёнку, всегда обращайтесь в службу школьной медиаци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20.5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560" y="333000"/>
            <a:ext cx="856944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ведение родителя в ссоре между детьм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1. Не всегда следует вмешиваться в ссоры между детьми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мешайте детям получать такой жизненно важный опыт. Однако бывают ситуации, когда вмешательство взрослого необходимо.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2. Вмешиваясь в детский конфликт, никогда не занимайте сразу позицию своего ребёнка, старайтесь вникнуть в суть конфлик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0" y="0"/>
            <a:ext cx="843444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ведение родителя в ссоре между детьм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9840" y="1628640"/>
            <a:ext cx="87138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3. Попробуйте приучить детей к мысли, что, кто бы ни начал ссору, ответственность за дальнейшее развитие событий несут  всегда двое. Поэтому, вмешиваясь в общение детей, старайтесь показать им, как можно найти способ выхода из трудной ситуации, который устроил бы их обоих, делайте акцент не на «кто виноват?», а на «что делать?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о 4. Помогая детям выйти из конфликта и освободиться от накопившейся обиды и злости, следите за тем, чтобы они не переходили на лич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4"/>
          <p:cNvSpPr/>
          <p:nvPr/>
        </p:nvSpPr>
        <p:spPr>
          <a:xfrm>
            <a:off x="611280" y="1197000"/>
            <a:ext cx="799308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    Установите причину конфликта, стараясь услышать друг друга, и правильно понять друг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    Будьте тактич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    Ведите разговор по суще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    Ищите компроми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.    Умейте признавать    свои ошиб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.    Умейте слушать и слышать друг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539640" y="308520"/>
            <a:ext cx="7632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b5395"/>
                </a:solidFill>
                <a:latin typeface="Arial"/>
              </a:rPr>
              <a:t>Конфликт учитель-род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  <a:ea typeface="Arial"/>
              </a:rPr>
              <a:t>5 ОСНОВНЫХ ТИПОВ КОНФЛИКТНЫХ ЛИЧНОСТЕ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АТИВ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ИГИД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НЕУПРАВЛЯЕМ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ВЕРХТОЧ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БЕСКОНФЛИКТНЫЙ ТИ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Спасибо за работу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усть мы все почувствуем стремление к пониманию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усть свет добра и свет любви наполнит наши сердца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152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 – предоставление возможности участникам получить опыт конструктивного решения конфликтных ситуац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214200" y="2500200"/>
            <a:ext cx="87156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ение методам нахождения решения в конфликтных ситуа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знакомить со способами решения конфликтных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чь участникам скорректировать свое поведение в сторону снижения его конфликтности (снять конфликтность в личностно-эмоциональной сфе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14200" y="928800"/>
            <a:ext cx="864396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ловесное состязание, обсуждение чего-либо между двумя или несколькими лицами, при котором каждая из сторон отстаивает св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олкновение противоположно направленных, несовместимых друг с другом мнений, связанных с острыми отрицательными эмоциональными пережив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ликтная ситуа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ротиворечивые позиции сторон по какому-либо по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цид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лучай, происшествие (обычно неприятное), недоразумение, столкнов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ПРИЧИНЫ КОНФЛИК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 и обстоятельства, которые привели к изменению,                    ущемлению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ия в психологиче-                           ских особенностях                       (темперамент, характер,               потребности, мотивы                               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3" descr=""/>
          <p:cNvPicPr/>
          <p:nvPr/>
        </p:nvPicPr>
        <p:blipFill>
          <a:blip r:embed="rId1"/>
          <a:stretch/>
        </p:blipFill>
        <p:spPr>
          <a:xfrm>
            <a:off x="5143680" y="2143080"/>
            <a:ext cx="34858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ОЦЕНКА СОБСТВЕННОГО ПОВЕДЕНИЯ В КОНФЛИКТНОЙ СИТУ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42920" y="1428840"/>
            <a:ext cx="88581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арайтесь искренне ответить на вопрос: «Как вы обычно ведете себя в конфликтной ситуации или сп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вам свойственно то или иное поведение, поставьте соответствующее количество баллов после каждого номера ответа, характеризующего определенный стиль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подобным образом вы ведет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ставьте 3 б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СЛУЧАЯ К СЛУЧА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2 б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ДК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</a:rPr>
              <a:t>5 ОСНОВНЫХ СТИЛЕЙ РАЗРЕШЕНИЯ КОНФЛИКТОВ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ЛО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ГЛАЖ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НУ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МПРОМИ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799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ЕНИЕ ПРОБЛЕМЫ (СОТРУДНИЧЕ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АСПЕКТЫ ОСОЗНАННОСТИ И НЕОСОЗНАННОСТИ В КОНФЛИКТ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ликты, происходящие от непонимания ситуации, неумения себя вести (промолчать, сдержаться и т.д.), т.е. неосозна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ликты, возникающие сознательно по воле, по меньшей мере одной из конфликтующих сторон, с целью «выплеснуть» на собеседника свою агрессивность, снять на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</a:rPr>
              <a:t>АГРЕССИВНОСТЬ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28584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гресси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лат. Aggredi-нападать) – поведение человека в отношении других людей, которое отличается стремлением причинить им неприятности, нанести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 основных способа снятия                       агрессив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с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300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3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592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УРОВЕНЬ КОНФЛИКТНОСТИ ЛИЧНОСТ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кц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ответе на вопрос выберите один вариант ответа, под конкретной буквой, запишите букву после номера во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bd0d9"/>
              </a:buClr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работка результатов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ответы к каждому вопросу имеют свою оценку в баллах. Замените выбранные вами буквы баллами и подсчитайте общую сумму набранных вами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Черноокие</cp:lastModifiedBy>
  <dcterms:modified xsi:type="dcterms:W3CDTF">2020-05-11T15:52:39Z</dcterms:modified>
  <cp:revision>19</cp:revision>
  <dc:subject/>
  <dc:title>ПОНИМАНИЕ – НАЧАЛО  СОГЛАСИЯ</dc:title>
</cp:coreProperties>
</file>